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314A-1250-4E0E-ADD9-A417EA6F0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7429-C904-4156-AD9F-5C9ECA2C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02DB-D395-457D-A0BD-4857D8839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9F89-13E0-4043-A65C-6E04E7B8E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2CE5-935C-4F75-9A9C-8D28D7D4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1A80-1C40-4401-A0A7-F48540CD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A716-1FEC-4733-BF94-B25B7606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9958-C1C5-49C9-8043-72901E05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4D81-2BCE-4DF0-A272-F5EA2456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0735-B2BC-4B26-8C6A-BADF8222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7D3E-20A7-4BC5-9715-6DA3E165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4573-9FEC-4451-BA1F-82E8D451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BFF2-EFFD-4197-BA88-7103E4E8F2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5181480"/>
            <a:ext cx="7543800" cy="1067040"/>
          </a:xfrm>
          <a:prstGeom prst="roundRect">
            <a:avLst>
              <a:gd name="adj" fmla="val 21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FreeBSD-3.4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10280" y="5334120"/>
            <a:ext cx="1447920" cy="76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NTP 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486400" y="5334120"/>
            <a:ext cx="1447920" cy="76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PPS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2971800"/>
            <a:ext cx="2133360" cy="19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N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971800"/>
            <a:ext cx="2133720" cy="19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Microste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daem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971800"/>
            <a:ext cx="2133720" cy="19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S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remote lo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685800"/>
            <a:ext cx="7467840" cy="19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Ut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457200"/>
            <a:ext cx="7925040" cy="6019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08:52:16Z</dcterms:created>
  <dc:creator>Hans Nästén</dc:creator>
  <dc:description/>
  <dc:language>en-US</dc:language>
  <cp:lastModifiedBy>Hans Nästén</cp:lastModifiedBy>
  <dcterms:modified xsi:type="dcterms:W3CDTF">2000-04-10T09:26:41Z</dcterms:modified>
  <cp:revision>2</cp:revision>
  <dc:subject/>
  <dc:title>PowerPoint Presentation</dc:title>
</cp:coreProperties>
</file>