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C0C-B9B6-4013-81D4-78F24741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429-367A-48FD-9F55-078D104F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F76-F345-4415-877E-BF747913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40E-E5E4-45BF-A405-BA728CD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10E-C68D-4AEC-B509-F08580D3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A8F-1E56-4802-A550-622AAF18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1C9-2E98-40B4-B8D4-73FA116F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6F7-32D5-42C1-A723-5DE2D73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DC8-0AE9-4E49-8207-D7E6805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60D-5754-4FF8-9E73-EC6CE5EE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8BF-28EE-46FF-8D87-1325D0F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3CF-E949-4374-99EC-E2F9C87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C45-48B0-4EA4-A370-AD10469628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380880"/>
            <a:ext cx="762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12193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12193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12193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74320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7339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5181480"/>
            <a:ext cx="762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5181480"/>
            <a:ext cx="762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181480"/>
            <a:ext cx="761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681120"/>
            <a:ext cx="763560" cy="538200"/>
          </a:xfrm>
          <a:custGeom>
            <a:avLst/>
            <a:gdLst/>
            <a:ahLst/>
            <a:rect l="l" t="t" r="r" b="b"/>
            <a:pathLst>
              <a:path w="481" h="339">
                <a:moveTo>
                  <a:pt x="0" y="3"/>
                </a:moveTo>
                <a:lnTo>
                  <a:pt x="481" y="0"/>
                </a:lnTo>
                <a:lnTo>
                  <a:pt x="480" y="3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1523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523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286000"/>
            <a:ext cx="5486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61760" y="1523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1523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35200" y="4334040"/>
            <a:ext cx="3384720" cy="841320"/>
          </a:xfrm>
          <a:custGeom>
            <a:avLst/>
            <a:gdLst/>
            <a:ahLst/>
            <a:rect l="l" t="t" r="r" b="b"/>
            <a:pathLst>
              <a:path w="2132" h="530">
                <a:moveTo>
                  <a:pt x="0" y="530"/>
                </a:moveTo>
                <a:lnTo>
                  <a:pt x="0" y="294"/>
                </a:lnTo>
                <a:lnTo>
                  <a:pt x="2132" y="294"/>
                </a:lnTo>
                <a:lnTo>
                  <a:pt x="21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43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199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3880"/>
            <a:ext cx="4503600" cy="2481480"/>
          </a:xfrm>
          <a:custGeom>
            <a:avLst/>
            <a:gdLst/>
            <a:ahLst/>
            <a:rect l="l" t="t" r="r" b="b"/>
            <a:pathLst>
              <a:path w="2837" h="1563">
                <a:moveTo>
                  <a:pt x="0" y="0"/>
                </a:moveTo>
                <a:lnTo>
                  <a:pt x="0" y="1560"/>
                </a:lnTo>
                <a:lnTo>
                  <a:pt x="2837" y="15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44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9080" y="5784840"/>
            <a:ext cx="3390840" cy="311040"/>
          </a:xfrm>
          <a:custGeom>
            <a:avLst/>
            <a:gdLst/>
            <a:ahLst/>
            <a:rect l="l" t="t" r="r" b="b"/>
            <a:pathLst>
              <a:path w="2136" h="196">
                <a:moveTo>
                  <a:pt x="0" y="0"/>
                </a:moveTo>
                <a:lnTo>
                  <a:pt x="0" y="196"/>
                </a:lnTo>
                <a:lnTo>
                  <a:pt x="2136" y="196"/>
                </a:lnTo>
                <a:lnTo>
                  <a:pt x="2136" y="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6040" y="380880"/>
            <a:ext cx="77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1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371600"/>
            <a:ext cx="223920" cy="147600"/>
          </a:xfrm>
          <a:custGeom>
            <a:avLst/>
            <a:gdLst/>
            <a:ahLst/>
            <a:rect l="l" t="t" r="r" b="b"/>
            <a:pathLst>
              <a:path w="141" h="93">
                <a:moveTo>
                  <a:pt x="0" y="0"/>
                </a:moveTo>
                <a:lnTo>
                  <a:pt x="141" y="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38560" y="1519200"/>
            <a:ext cx="157320" cy="1800"/>
          </a:xfrm>
          <a:custGeom>
            <a:avLst/>
            <a:gdLst/>
            <a:ahLst/>
            <a:rect l="l" t="t" r="r" b="b"/>
            <a:pathLst>
              <a:path w="99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48040" y="13334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8040" y="15620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6640" y="1486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1371600"/>
            <a:ext cx="156960" cy="1440"/>
          </a:xfrm>
          <a:custGeom>
            <a:avLst/>
            <a:gdLst/>
            <a:ahLst/>
            <a:rect l="l" t="t" r="r" b="b"/>
            <a:pathLst>
              <a:path w="99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600200"/>
            <a:ext cx="156960" cy="1440"/>
          </a:xfrm>
          <a:custGeom>
            <a:avLst/>
            <a:gdLst/>
            <a:ahLst/>
            <a:rect l="l" t="t" r="r" b="b"/>
            <a:pathLst>
              <a:path w="99" h="1">
                <a:moveTo>
                  <a:pt x="0" y="0"/>
                </a:moveTo>
                <a:lnTo>
                  <a:pt x="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791320" y="3809520"/>
            <a:ext cx="561960" cy="341640"/>
            <a:chOff x="5791320" y="3809520"/>
            <a:chExt cx="561960" cy="341640"/>
          </a:xfrm>
        </p:grpSpPr>
        <p:sp>
          <p:nvSpPr>
            <p:cNvPr id="75" name=""/>
            <p:cNvSpPr/>
            <p:nvPr/>
          </p:nvSpPr>
          <p:spPr>
            <a:xfrm>
              <a:off x="5943600" y="3884400"/>
              <a:ext cx="223920" cy="147600"/>
            </a:xfrm>
            <a:custGeom>
              <a:avLst/>
              <a:gdLst/>
              <a:ahLst/>
              <a:rect l="l" t="t" r="r" b="b"/>
              <a:pathLst>
                <a:path w="141" h="93">
                  <a:moveTo>
                    <a:pt x="0" y="0"/>
                  </a:moveTo>
                  <a:lnTo>
                    <a:pt x="141" y="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95960" y="4032000"/>
              <a:ext cx="157320" cy="1800"/>
            </a:xfrm>
            <a:custGeom>
              <a:avLst/>
              <a:gdLst/>
              <a:ahLst/>
              <a:rect l="l" t="t" r="r" b="b"/>
              <a:pathLst>
                <a:path w="99" h="1">
                  <a:moveTo>
                    <a:pt x="0" y="0"/>
                  </a:moveTo>
                  <a:lnTo>
                    <a:pt x="9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3846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05440" y="4074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34040" y="39988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791320" y="3809160"/>
              <a:ext cx="190440" cy="74520"/>
            </a:xfrm>
            <a:custGeom>
              <a:avLst/>
              <a:gdLst/>
              <a:ahLst/>
              <a:rect l="l" t="t" r="r" b="b"/>
              <a:pathLst>
                <a:path w="99" h="1">
                  <a:moveTo>
                    <a:pt x="0" y="0"/>
                  </a:moveTo>
                  <a:lnTo>
                    <a:pt x="9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1320" y="4113000"/>
              <a:ext cx="156960" cy="1800"/>
            </a:xfrm>
            <a:custGeom>
              <a:avLst/>
              <a:gdLst/>
              <a:ahLst/>
              <a:rect l="l" t="t" r="r" b="b"/>
              <a:pathLst>
                <a:path w="99" h="1">
                  <a:moveTo>
                    <a:pt x="0" y="0"/>
                  </a:moveTo>
                  <a:lnTo>
                    <a:pt x="9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968360" y="1219320"/>
            <a:ext cx="8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ynthe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28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from 10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4960" y="123048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b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274320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by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1680" y="914400"/>
            <a:ext cx="158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10 MHz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Frequency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9240" y="11430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14 MHz to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3120" y="12952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28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70160" y="51926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Mic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ste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6680" y="519264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3920" y="5181480"/>
            <a:ext cx="64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3120" y="510552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PPS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44920" y="51166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PPS 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5960" y="267804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Altera FP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1040" y="5791320"/>
            <a:ext cx="150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Microstepped P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3:01:57Z</dcterms:created>
  <dc:creator>Hans Nästén</dc:creator>
  <dc:description/>
  <dc:language>en-US</dc:language>
  <cp:lastModifiedBy>Hans Nästén</cp:lastModifiedBy>
  <dcterms:modified xsi:type="dcterms:W3CDTF">2000-04-02T14:53:00Z</dcterms:modified>
  <cp:revision>2</cp:revision>
  <dc:subject/>
  <dc:title>PowerPoint Presentation</dc:title>
</cp:coreProperties>
</file>